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46D-0AF7-41E0-9313-6AF63DFC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630-3CF7-4B0A-9E47-CBDB4D24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F44E-5E32-4CE7-BDFB-50F0912C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517E-DB0B-414C-A5E3-5187B703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BB7A-39D1-4DE2-83F6-5BEAA8D1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0C04-0F0A-4933-A723-8B9FD1B4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F537-800A-461A-B9CB-86E878F8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0576-FC9D-4452-BB25-7EA6A8C0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71F2-7959-4C27-AD53-C95D1669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7772-4490-42B6-AA04-93AC0760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4FD6-75B6-41B9-9C75-C2590D97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F46-102E-4D7B-B12F-1EA53032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EF4C-1FF4-4AB7-9999-47F9169C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69F9-8C89-4855-8ACD-ABA04E58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C409-F443-4B75-8F55-9FB89C67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CF7C-866F-4E32-B76E-A97F455D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478D-7BC5-4F08-BA53-C2422502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B405-E5B4-4723-929E-C11DAA7E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85B7-4C4E-4440-8AAB-0FD0104C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BA7-62DA-40B8-8556-41882C10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9299-AC4F-47E5-B315-76684130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DB3-D89F-4158-869A-5A0DAAAF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CEC0-9748-4F68-A175-452E10E3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3D1-388C-42F7-A594-CC27514D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等腰三角形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640" y="2925000"/>
            <a:ext cx="6857640" cy="17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EB8FEF8-1AFA-46F3-AC46-439180EDDAC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矩形 20"/>
          <p:cNvSpPr/>
          <p:nvPr/>
        </p:nvSpPr>
        <p:spPr>
          <a:xfrm>
            <a:off x="905040" y="2565000"/>
            <a:ext cx="7314840" cy="21600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矩形 32"/>
          <p:cNvSpPr/>
          <p:nvPr/>
        </p:nvSpPr>
        <p:spPr>
          <a:xfrm>
            <a:off x="914400" y="4797000"/>
            <a:ext cx="7314840" cy="93636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矩形 21"/>
          <p:cNvSpPr/>
          <p:nvPr/>
        </p:nvSpPr>
        <p:spPr>
          <a:xfrm>
            <a:off x="899640" y="2565000"/>
            <a:ext cx="215640" cy="2143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矩形 31"/>
          <p:cNvSpPr/>
          <p:nvPr/>
        </p:nvSpPr>
        <p:spPr>
          <a:xfrm>
            <a:off x="914400" y="4797000"/>
            <a:ext cx="200880" cy="93636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等腰三角形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464653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E60FF3E-09D6-47F7-A7A8-4B3B3EE6DA2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</a:rPr>
              <a:t>单击此处编辑母版文本样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zh-CN" sz="2300" spc="-1" strike="noStrike">
                <a:solidFill>
                  <a:srgbClr val="464653"/>
                </a:solidFill>
                <a:latin typeface="Gill Sans MT"/>
              </a:rPr>
              <a:t>第二级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zh-CN" sz="1800" spc="-1" strike="noStrike">
                <a:solidFill>
                  <a:srgbClr val="000000"/>
                </a:solidFill>
                <a:latin typeface="Gill Sans MT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9640" y="2781000"/>
            <a:ext cx="67856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hysical Design of FabScalar Generated Superscalar Process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4941000"/>
            <a:ext cx="6857640" cy="7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EE6052 Clas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Wei Zh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eterogeneous Multi-Core Processors have many advantag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Scalar uses canonical pipeline stages for superscalar processor genera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hysical design of FabScalar generated cores remains to be further investigat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AD14-DA05-4985-B918-81A65659AA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eterogeneous Multi-Core Process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Scal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hysical design of FabScalar generated co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ngs we can d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445C-085F-4DC2-A950-AA1B13A1A9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eterogeneous Multi-Core Process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0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eterogeneous multi-Core process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tains multiple, differently-designed superscalar core types that can streamline the execution of diverse program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ore types differ from each other and target at different applicat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uperscalar process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tilizes instruction level parallelism. Executes more than one instruction during a clock-cyc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spatch instructions to redundant functional units such as ALU, multiplier, bit shifter, etc on the processo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Achilles’ heel” of heterogeneous multi-core processor desig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sign and verification effort is multiplied by the number of different core types, which limits the amount of architectural diversity that can be practically implement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96ED-9F94-4C64-A9F0-CBB8C857EA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abScal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toolset developed to automatically compose RTL designs of arbitrary cores within a canonical superscalar templat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rames superscalar processors in a canonical template which defines canonical pipeline stages and interfaces among the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Canonical Pipeline Stage Library (CPSL) provides many implementations of each canonical pipeline stage that differs in their superscalar dimens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 RTL generation tool uses the template and CPSL to automatically generate an overall core of desired configura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B466-7119-4C52-89FA-AB1469DC82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anonical Pipeline Stag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717000"/>
            <a:ext cx="822924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pipeline stages and interfaces are the same for all the superscalar processo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ach pipeline stage is composed from the Canonical Pipeline Stage Librar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395640" y="1556640"/>
            <a:ext cx="8208720" cy="18090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4456-61AB-4CDA-9053-B61F52F083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anonical Pipeline Stage Libr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284120" y="1219320"/>
            <a:ext cx="6575760" cy="493668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6427-7C11-42B1-851F-D9E63D6612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abMem: A Multiported RAM and CAM Compil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0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stimates read/write delays, read/write energies, and areas of user-specified multi-ported RAMs/CAM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enerates layouts of desired RAMs/CAM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Limit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bMem is tied to a specific technology (FreePDK45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largest supported RAM is 512 word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bMem can generate RAMs for only 2XR-XW and XR-XW configurations. The maximum number of read ports is 16. The maximum number of write ports is 8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degree of column muxing in RAMs is limited to 1, 2, and 4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largest supported CAM is 256 word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bMem can generate CAMs for only XR-XW configurations. The maximum number of read ports is 8. The maximum number of write ports is 8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2034-8355-4FC7-A01D-7263FB89EB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by FabScalar Grou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39704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FabMem to generate custom designs of critical memory structur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urse-grained floorplann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ittle consideration of power, area and performance issu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FreePDK45, a 45nm based standard cell library, for logic synthesis and place-and-rout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4500000" y="1556640"/>
            <a:ext cx="4409640" cy="4352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BBB3-CC45-4D54-9D94-3669CFD5D9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Things We Can D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loorplann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ta path desig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mory design – comparison between FabMem and other memory compil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dence vs Synopsy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ower plann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5C00-3C17-4081-889E-F4FB4A62FC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682</TotalTime>
  <Application>LibreOffice/7.4.7.2$Linux_X86_64 LibreOffice_project/40$Build-2</Application>
  <AppVersion>15.0000</AppVersion>
  <Words>493</Words>
  <Paragraphs>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03:52:13Z</dcterms:created>
  <dc:creator>RabbitWayne</dc:creator>
  <dc:description/>
  <dc:language>en-US</dc:language>
  <cp:lastModifiedBy>RabbitWayne</cp:lastModifiedBy>
  <dcterms:modified xsi:type="dcterms:W3CDTF">2012-02-23T15:16:29Z</dcterms:modified>
  <cp:revision>1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